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2362320" y="-76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72000" y="3048120"/>
            <a:ext cx="457200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4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8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457200" y="6521040"/>
            <a:ext cx="55627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6934320" y="5715000"/>
            <a:ext cx="1981080" cy="1038240"/>
            <a:chOff x="6934320" y="5715000"/>
            <a:chExt cx="1981080" cy="1038240"/>
          </a:xfrm>
        </p:grpSpPr>
        <p:pic>
          <p:nvPicPr>
            <p:cNvPr id="19" name="" descr=""/>
            <p:cNvPicPr/>
            <p:nvPr/>
          </p:nvPicPr>
          <p:blipFill>
            <a:blip r:embed="rId8"/>
            <a:stretch/>
          </p:blipFill>
          <p:spPr>
            <a:xfrm>
              <a:off x="6934320" y="5809320"/>
              <a:ext cx="944280" cy="48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" descr=""/>
            <p:cNvPicPr/>
            <p:nvPr/>
          </p:nvPicPr>
          <p:blipFill>
            <a:blip r:embed="rId9"/>
            <a:stretch/>
          </p:blipFill>
          <p:spPr>
            <a:xfrm>
              <a:off x="6981480" y="6352200"/>
              <a:ext cx="193392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10"/>
            <a:stretch/>
          </p:blipFill>
          <p:spPr>
            <a:xfrm>
              <a:off x="7920000" y="5715000"/>
              <a:ext cx="995400" cy="597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763120" y="0"/>
            <a:ext cx="0" cy="28195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gradFill rotWithShape="0">
            <a:gsLst>
              <a:gs pos="0">
                <a:srgbClr val="2d6bc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743200" y="5181480"/>
            <a:ext cx="3200400" cy="1676520"/>
            <a:chOff x="2743200" y="5181480"/>
            <a:chExt cx="3200400" cy="1676520"/>
          </a:xfrm>
        </p:grpSpPr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743200" y="5334120"/>
              <a:ext cx="15256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2819520" y="6210360"/>
              <a:ext cx="31240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8"/>
            <a:stretch/>
          </p:blipFill>
          <p:spPr>
            <a:xfrm>
              <a:off x="4335480" y="5181480"/>
              <a:ext cx="1608120" cy="9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0" y="2819520"/>
            <a:ext cx="914400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895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906280"/>
            <a:ext cx="87631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thwest PA Regional Wide Area Net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53680" y="3749760"/>
            <a:ext cx="6303960" cy="120312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west Tri-County Intermediate Unit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verview Intermediate Unit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N Intermediate Unit 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3 Intermediate Unit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48 districts and career-tech school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9 counti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6,113 square mil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115,289 student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1905120"/>
            <a:ext cx="533160" cy="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690560"/>
            <a:ext cx="1371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1d528d"/>
                </a:solidFill>
                <a:latin typeface="Arial"/>
              </a:rPr>
              <a:t>WAN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(Infrastructure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1600200"/>
            <a:ext cx="59436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d528d"/>
                </a:solidFill>
                <a:latin typeface="Arial"/>
              </a:rPr>
              <a:t>         </a:t>
            </a:r>
            <a:r>
              <a:rPr b="1" lang="en-US" sz="3800" spc="-1" strike="noStrike">
                <a:solidFill>
                  <a:srgbClr val="1d528d"/>
                </a:solidFill>
                <a:latin typeface="Arial"/>
              </a:rPr>
              <a:t>L.E.A.R.N.</a:t>
            </a:r>
            <a:endParaRPr b="0" lang="en-US" sz="3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(Leading Educational Achievement through the Regional Network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676520"/>
            <a:ext cx="1600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528d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1d528d"/>
                </a:solidFill>
                <a:latin typeface="Arial"/>
              </a:rPr>
              <a:t>E-Fund</a:t>
            </a: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(Money $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1905120"/>
            <a:ext cx="1600200" cy="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7 Northwest PA Regional WAN</a:t>
            </a: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Service Ar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38080" y="1241280"/>
            <a:ext cx="7696440" cy="45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7 Northwest PA Regional WAN</a:t>
            </a: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twork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100 Mbps connectivity to district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1 Gig connectivity to IU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400 Mbps of Internet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hared Internet2 connectivity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Inter-connected IU cor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7 Northwest PA Regional WAN</a:t>
            </a: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7710480" cy="2776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238880" y="838080"/>
            <a:ext cx="1533600" cy="2210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3581280" y="31896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152280"/>
            <a:ext cx="5791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aring Download Times</a:t>
            </a:r>
            <a:endParaRPr b="0" lang="en-US" sz="3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7 Northwest PA Regional WAN</a:t>
            </a: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tegic 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Promote a culture of regional collaboration in all aspects of the educational process for students, staff and/or administration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ster continuous improvement and professional development among staff; and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Make effective use of leading edge &amp; emerging technology tools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523880"/>
            <a:ext cx="7467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528d"/>
                </a:solidFill>
                <a:latin typeface="Arial"/>
              </a:rPr>
              <a:t>L.E.A.R.N.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(Leading Educational Achievement through the Regional Network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7 Northwest PA Regional WAN</a:t>
            </a: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chnology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Videoconferencing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Blogs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Wikis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Podcasting/Videocasting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ocial Networking Sit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Virtual World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ourse Management System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Internet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7 Northwest PA Regional WAN</a:t>
            </a: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struction and Developm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Mobile and room videoconferencing unit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Discovery and AIMS titl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MAGPI subscription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afari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Media Sit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tudent Achievement Applications/Video Conten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Professional Development opportunit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07 Northwest PA Regional WAN</a:t>
            </a: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19:27Z</dcterms:created>
  <dc:creator>tgibbs</dc:creator>
  <dc:description/>
  <dc:language>en-US</dc:language>
  <cp:lastModifiedBy>wolfrom</cp:lastModifiedBy>
  <dcterms:modified xsi:type="dcterms:W3CDTF">2007-09-26T12:43:52Z</dcterms:modified>
  <cp:revision>61</cp:revision>
  <dc:subject/>
  <dc:title>Northwest PA Regional Wide Area Network</dc:title>
</cp:coreProperties>
</file>